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2612-4297-4CE8-9722-044672BE62B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оспр. Ч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1014-FF3C-4AAD-BCCF-2B087174539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356B-2D3A-4C35-9F28-9BF6F5E8EB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49A-D974-4719-846C-490EEB9F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5264-7769-4F7B-BA81-3242C0BD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793-C734-4157-B6E6-1F723BD6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A25-982C-4EAD-9081-A4F7656B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44C-C8EA-4DD9-B851-705EEFF5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C37-9CB0-40E6-9D8A-1AA7842C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220-65E8-4937-ADE1-6B3F65A7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57B-2C12-414A-92D2-B1D4D59A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2B5-DBE2-4F5B-AFA5-E316CEDD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35EC-DA73-49B0-9ABD-A0B18ADC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F3B-48DC-462A-A27A-BC3B5D11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10F4-0A68-461B-BF6B-5100A863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9379-1EAE-4DA9-B039-1D15967BDED9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81464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хова М.Х.,                                                                               ведущий консультант                                                                          Министерства образования и науки РТ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294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проведения в 2014 году государственной итоговой аттестации                                                             по образовательным программам                основного общего образования                                                                    в форме основного государственного экза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еспечение ППЭ техническими средствами и оборудование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468360" y="127332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– звуковоспроизводящей аппаратурой (для воспроизведения аудиотекста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остранным языкам (английский, французский,  немецкий, испанский) – звуковоспроизводящей (для воспроизведения аудиотекста) и звукозаписывающей аппаратурой (диктофоны, батарейки), компакт-дисками (CD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для записи ответов экзаменуемых в разделе «Говорение»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изике – экспериментальным оборудование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форматике и ИКТ – персональными компьютерами                                         с установленным соответствующим программным обеспечение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395280" y="1329840"/>
            <a:ext cx="8072280" cy="41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33720" bIns="200160" anchor="ctr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51444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ППЭ необходимо обеспечить наличие аудитории  для участников с ОВЗ, а также предусмотреть условия для участников с ОВЗ: наличие пандусов, размещение аудитории с учетом беспрепятственного доступа. Аудитории для участников с ОВЗ готовятся с учетом состояния здоровья, особенности психофизического развития и индивидуальных возможностей (аудитория для участников с ОВЗ должна располагаться на 1 этаже ППЭ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51444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549360"/>
            <a:ext cx="89280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а ППЭ для лиц с ОВЗ к экзаме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6" name="AutoShape 2"/>
          <p:cNvCxnSpPr/>
          <p:nvPr/>
        </p:nvCxnSpPr>
        <p:spPr>
          <a:xfrm flipH="1" rot="16200000">
            <a:off x="5722920" y="2415960"/>
            <a:ext cx="2160" cy="2160"/>
          </a:xfrm>
          <a:prstGeom prst="bentConnector5">
            <a:avLst>
              <a:gd name="adj1" fmla="val 14400000"/>
              <a:gd name="adj2" fmla="val 68800000"/>
              <a:gd name="adj3" fmla="val -14400000"/>
            </a:avLst>
          </a:prstGeom>
          <a:ln w="0">
            <a:noFill/>
          </a:ln>
        </p:spPr>
      </p:cxnSp>
      <p:sp>
        <p:nvSpPr>
          <p:cNvPr id="77" name="AutoShape 3"/>
          <p:cNvSpPr/>
          <p:nvPr/>
        </p:nvSpPr>
        <p:spPr>
          <a:xfrm>
            <a:off x="299880" y="839160"/>
            <a:ext cx="8436240" cy="1852200"/>
          </a:xfrm>
          <a:prstGeom prst="roundRect">
            <a:avLst>
              <a:gd name="adj" fmla="val 25454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спечить готовность ППЭ к проведению ОГЭ, в соответствии с требованиями к ППЭ. Предусмотреть аудитории для сопровождающих участников ОГЭ, представителей СМИ. Убрать или закрыть стенды в аудиториях. За день до экзамена проверить пожарные выходы, средства пожаротушения, иметь комплект ключей от всех рабочих аудиторий. Обеспечить каждую аудиторию часами. Подготовить ножницы, кле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69920" y="3044160"/>
            <a:ext cx="4618080" cy="35060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знакомить под роспись всех работников ППЭ со следующими материалам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рмативно-правовыми документами, регламентирующими проведение ОГЭ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струкциями, определяющими порядок работы в ППЭ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авилами заполнения бланков ответов ОГЭ участниками ОГЭ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рядком оформления форм, ведомостей, протоколов актов и служебных документов в аудитории и ППЭ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5105520" y="3048120"/>
            <a:ext cx="3762360" cy="3580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ть в необходимом количестве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струкцию, зачитываемую организатором в аудитории перед началом экзамена для участников ОГЭ; информацию о сроках ознакомления участников ОГЭ с результатами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умагу для черновиков из расчета по два листа на каждого участника ОГЭ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проводительные лис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69292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а ППЭ к экзамену руководителем   ПП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1" name="AutoShape 2"/>
          <p:cNvCxnSpPr/>
          <p:nvPr/>
        </p:nvCxnSpPr>
        <p:spPr>
          <a:xfrm flipH="1" rot="16200000">
            <a:off x="5722920" y="2415960"/>
            <a:ext cx="2160" cy="2160"/>
          </a:xfrm>
          <a:prstGeom prst="bentConnector5">
            <a:avLst>
              <a:gd name="adj1" fmla="val 14400000"/>
              <a:gd name="adj2" fmla="val 68800000"/>
              <a:gd name="adj3" fmla="val -14400000"/>
            </a:avLst>
          </a:prstGeom>
          <a:ln w="0">
            <a:noFill/>
          </a:ln>
        </p:spPr>
      </p:cxnSp>
      <p:sp>
        <p:nvSpPr>
          <p:cNvPr id="82" name="AutoShape 3"/>
          <p:cNvSpPr/>
          <p:nvPr/>
        </p:nvSpPr>
        <p:spPr>
          <a:xfrm>
            <a:off x="214200" y="1018080"/>
            <a:ext cx="3568680" cy="99468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 позднее, чем за 2 часа до начала экзамен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– приступить к своим обязанностя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92240" y="2119680"/>
            <a:ext cx="8700840" cy="1815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tabLst>
                <a:tab algn="l" pos="0"/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Не позднее, чем за 1,5 часа до начала экзамен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учение экзаменационных материалов (форма 14-П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Э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, проверка комплектности и целостности ЭМ, размещение их в сейфе ППЭ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учение необходимых форм и документов (на СД-диске) и распечатк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егистрация, распределение, назначение ответственных организаторов (форма ППЭ-07-01, ППЭ-07-02) и краткий инструктаж организаторов и работников ППЭ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дать ведомости и протоколы организаторам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6005520" y="4261320"/>
            <a:ext cx="2898720" cy="1140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Verdana"/>
              </a:rPr>
              <a:t>Организаторам вне аудитории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ПЭ-06-01, ППЭ-16, ППЭ-12-02, ППЭ-2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85" name="AutoShape 25"/>
          <p:cNvCxnSpPr>
            <a:stCxn id="82" idx="3"/>
          </p:cNvCxnSpPr>
          <p:nvPr/>
        </p:nvCxnSpPr>
        <p:spPr>
          <a:xfrm>
            <a:off x="3782520" y="1514160"/>
            <a:ext cx="1220040" cy="5101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pic>
        <p:nvPicPr>
          <p:cNvPr id="86" name="Picture 26" descr="утверждающий"/>
          <p:cNvPicPr/>
          <p:nvPr/>
        </p:nvPicPr>
        <p:blipFill>
          <a:blip r:embed="rId1"/>
          <a:stretch/>
        </p:blipFill>
        <p:spPr>
          <a:xfrm>
            <a:off x="8358120" y="3357720"/>
            <a:ext cx="466920" cy="50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2" descr="час"/>
          <p:cNvPicPr/>
          <p:nvPr/>
        </p:nvPicPr>
        <p:blipFill>
          <a:blip r:embed="rId2"/>
          <a:stretch/>
        </p:blipFill>
        <p:spPr>
          <a:xfrm>
            <a:off x="214200" y="160668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5"/>
          <p:cNvSpPr/>
          <p:nvPr/>
        </p:nvSpPr>
        <p:spPr>
          <a:xfrm>
            <a:off x="185760" y="4264920"/>
            <a:ext cx="5603760" cy="2158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Организаторам в аудитория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иски участников экзамена в аудиториях, протоколы (формы ППЭ-05-01, ППЭ-05-02, 12-01, 12-02, 12-03, сопроводительные бланки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аблички с номером аудитор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звратные спецпакет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струкцию, зачитываемую организатором в аудитории перед началом экзамена для участников ОГЭ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ернов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89" name="AutoShape 25"/>
          <p:cNvCxnSpPr/>
          <p:nvPr/>
        </p:nvCxnSpPr>
        <p:spPr>
          <a:xfrm flipH="1">
            <a:off x="2986920" y="3943440"/>
            <a:ext cx="685080" cy="2944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0" name="AutoShape 25"/>
          <p:cNvCxnSpPr/>
          <p:nvPr/>
        </p:nvCxnSpPr>
        <p:spPr>
          <a:xfrm>
            <a:off x="5286240" y="3929040"/>
            <a:ext cx="1735920" cy="3006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79581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день экзамена руководитель ППЭ долж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324000" y="333360"/>
            <a:ext cx="8135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Не позднее чем за 1,5 часа до начала проведения экзамена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овать выдачу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ответственным организаторам </a:t>
            </a:r>
            <a:br>
              <a:rPr sz="2000"/>
            </a:br>
            <a:r>
              <a:rPr b="0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в аудиториях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ющих материал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иски участников экзамена  в аудиториях (форма ППЭ-05-01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омости учета участников ОГЭ и экзаменационных материалов в аудитории (форма ППЭ-05-0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токолы проведения экзамена в аудитории ППЭ (форма ППЭ-12-01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омости использования дополнительных бланков ответов № 2 (форма ППЭ-12-0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проводительные бланк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вратные спецпакет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блички  с номерами аудиторий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ить организаторов в аудитории в соответств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протоколом распределения организаторов ППЭ (форма ППЭ-07-0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324000" y="333360"/>
            <a:ext cx="8135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Не позднее чем за 1,5 часа до начала проведения экзамена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овать выдачу 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организаторам вне аудиторий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ющих материалов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иски участников ОГЭ образовательной организации (форма ППЭ-06-0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шифровки кодов образовательных организаций (форма ППЭ-16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домости коррекции персональных данных участников ОГЭ в аудитории (форма ППЭ-12-0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кты об идентификации личности участника ОГЭ (форма ППЭ-2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метить в форме ППЭ-07-02 общественного наблюдателя и передать ему акт о результатах общественного наблюдения (форма ППЭ-18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 позднее, чем за 45 минут до начала проведения экзамен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дать указание начать организованный вход участников экзаменов в ППЭ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108000" y="41400"/>
            <a:ext cx="8928000" cy="65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уководитель ППЭ за 30 минут до экзамена должен проконтролировать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аждой аудитори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и для воспроизведения аудиозаписи текста для прослушивания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нь проведения экзамена по русскому языку в штабе ППЭ должна находиться резервная звуковоспроизводящая аппаратура с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иводом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изике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ств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а по физик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читель физики, не преподающий в данном классе) для проведения перед экзаменом инструктажа по технике безопасности и за соблюдением правил безопасного труда во время работы учащихся с лабораторным оборудование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форматике и ИКТ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ств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аудитории, где будет проводиться практическая часть экзамена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го специалиста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ностранным языкам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ность и работоспособность звуковоспроизводящей и звукозаписывающей техник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сутствие в аудиториях для устног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а экзаменатора-собеседника, технического специалиста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шрут перемещения участников ОГЭ по аудиториям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5" name="AutoShape 2"/>
          <p:cNvCxnSpPr/>
          <p:nvPr/>
        </p:nvCxnSpPr>
        <p:spPr>
          <a:xfrm flipH="1" rot="16200000">
            <a:off x="5722920" y="2490480"/>
            <a:ext cx="2160" cy="2160"/>
          </a:xfrm>
          <a:prstGeom prst="bentConnector5">
            <a:avLst>
              <a:gd name="adj1" fmla="val 14400000"/>
              <a:gd name="adj2" fmla="val 68800000"/>
              <a:gd name="adj3" fmla="val -14400000"/>
            </a:avLst>
          </a:prstGeom>
          <a:ln w="0">
            <a:noFill/>
          </a:ln>
        </p:spPr>
      </p:cxnSp>
      <p:sp>
        <p:nvSpPr>
          <p:cNvPr id="96" name="AutoShape 3"/>
          <p:cNvSpPr/>
          <p:nvPr/>
        </p:nvSpPr>
        <p:spPr>
          <a:xfrm>
            <a:off x="166680" y="1011240"/>
            <a:ext cx="4226040" cy="160956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ПЭ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 чем 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45 минут до экзамена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доступ участников ОГЭ согласно спискам распределения (ППЭ-06-01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контроль за входом участников ОГЭ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856040" y="2911680"/>
            <a:ext cx="4287960" cy="1798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ходе в аудиторию организатор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яет данные документа, удостоверяющего личность с ведомостью ППЭ-05-02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несовпадения – заполняет ведомость ППЭ-12-02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ывает участникам ОГЭ место в ауд. и место для личных вещей (ППЭ-05-02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8" name="AutoShape 25"/>
          <p:cNvCxnSpPr/>
          <p:nvPr/>
        </p:nvCxnSpPr>
        <p:spPr>
          <a:xfrm>
            <a:off x="1993680" y="2617920"/>
            <a:ext cx="1080" cy="227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9" name="AutoShape 25"/>
          <p:cNvCxnSpPr/>
          <p:nvPr/>
        </p:nvCxnSpPr>
        <p:spPr>
          <a:xfrm flipV="1">
            <a:off x="6947280" y="4717800"/>
            <a:ext cx="2520" cy="2592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0" name="AutoShape 25"/>
          <p:cNvCxnSpPr>
            <a:stCxn id="97" idx="0"/>
          </p:cNvCxnSpPr>
          <p:nvPr/>
        </p:nvCxnSpPr>
        <p:spPr>
          <a:xfrm flipH="1" flipV="1">
            <a:off x="6998400" y="2342880"/>
            <a:ext cx="2520" cy="560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1" name="AutoShape 3"/>
          <p:cNvSpPr/>
          <p:nvPr/>
        </p:nvSpPr>
        <p:spPr>
          <a:xfrm>
            <a:off x="0" y="2844720"/>
            <a:ext cx="4687920" cy="169236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 участников ОГЭ в ППЭ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кумента, удостоверяющего личность. В случае отсутствия по объективным причинам у обучающегося документа – форма ППЭ-20.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наличия у участников средств связи и иных запрещенных средств и материал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0" y="4861800"/>
            <a:ext cx="4500720" cy="120924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44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 лиц, имеющих право присутствовать в ППЭ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244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документов, удостоверяющих личность и полномочия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4856040" y="5022000"/>
            <a:ext cx="4287960" cy="94140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участников экзамена по аудиториям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ами вне и в ауд. в соответствии с формами 05-02, 06-0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4392720" y="1135440"/>
            <a:ext cx="4740120" cy="134100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экзамена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ют свои места, не переговариваются, не меняются места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 при себе документ, удостоверяющий личность, черную гелевую ручку, доп. материалы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5" name="AutoShape 25"/>
          <p:cNvCxnSpPr/>
          <p:nvPr/>
        </p:nvCxnSpPr>
        <p:spPr>
          <a:xfrm>
            <a:off x="1979280" y="4575240"/>
            <a:ext cx="1080" cy="241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6" name="AutoShape 25"/>
          <p:cNvCxnSpPr/>
          <p:nvPr/>
        </p:nvCxnSpPr>
        <p:spPr>
          <a:xfrm flipV="1">
            <a:off x="4500360" y="5503680"/>
            <a:ext cx="356040" cy="165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0" y="189000"/>
            <a:ext cx="69278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ход участников ОГЭ в ППЭ и распределение по аудитор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8" name="AutoShape 2"/>
          <p:cNvCxnSpPr/>
          <p:nvPr/>
        </p:nvCxnSpPr>
        <p:spPr>
          <a:xfrm flipH="1" rot="16200000">
            <a:off x="5640480" y="2645280"/>
            <a:ext cx="2160" cy="1080"/>
          </a:xfrm>
          <a:prstGeom prst="bentConnector5">
            <a:avLst>
              <a:gd name="adj1" fmla="val 14400000"/>
              <a:gd name="adj2" fmla="val 68800000"/>
              <a:gd name="adj3" fmla="val -14400000"/>
            </a:avLst>
          </a:prstGeom>
          <a:ln w="0">
            <a:noFill/>
          </a:ln>
        </p:spPr>
      </p:cxnSp>
      <p:sp>
        <p:nvSpPr>
          <p:cNvPr id="109" name="AutoShape 3"/>
          <p:cNvSpPr/>
          <p:nvPr/>
        </p:nvSpPr>
        <p:spPr>
          <a:xfrm>
            <a:off x="108000" y="871920"/>
            <a:ext cx="3889440" cy="302940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Не позднее, чем за 15 минут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торы в аудитории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олучают у руководителей ППЭ доставочные пакеты с ЭМ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Во время экзамена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 ППЭ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совместно с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уполномоченным ГЭК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существляют контроль за ходом проведения экзамена, проверяет помещения ППЭ на предмет присутствия посторонних лиц, решать иные вопросы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4205160" y="4292280"/>
            <a:ext cx="4788000" cy="2125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нструктаж участников ОГЭ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 порядке проведения экзамен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 правилах подачи апелляции о нарушении установленного порядка проведения ОГЭ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 правилах заполнения бланков ОГЭ, случаях удаления с экзамена, использовании доп. материал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 времени и месте ознакомления с результатами ОГЭ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1" name="AutoShape 25"/>
          <p:cNvCxnSpPr/>
          <p:nvPr/>
        </p:nvCxnSpPr>
        <p:spPr>
          <a:xfrm flipH="1" flipV="1">
            <a:off x="6587280" y="2448720"/>
            <a:ext cx="1080" cy="1962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pic>
        <p:nvPicPr>
          <p:cNvPr id="112" name="Picture 32" descr="час"/>
          <p:cNvPicPr/>
          <p:nvPr/>
        </p:nvPicPr>
        <p:blipFill>
          <a:blip r:embed="rId1"/>
          <a:stretch/>
        </p:blipFill>
        <p:spPr>
          <a:xfrm>
            <a:off x="3071880" y="1143000"/>
            <a:ext cx="372960" cy="371520"/>
          </a:xfrm>
          <a:prstGeom prst="rect">
            <a:avLst/>
          </a:prstGeom>
          <a:ln w="0">
            <a:noFill/>
          </a:ln>
        </p:spPr>
      </p:pic>
      <p:cxnSp>
        <p:nvCxnSpPr>
          <p:cNvPr id="113" name="AutoShape 25"/>
          <p:cNvCxnSpPr/>
          <p:nvPr/>
        </p:nvCxnSpPr>
        <p:spPr>
          <a:xfrm flipV="1">
            <a:off x="6737760" y="3970080"/>
            <a:ext cx="1080" cy="1944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4" name="AutoShape 3"/>
          <p:cNvSpPr/>
          <p:nvPr/>
        </p:nvSpPr>
        <p:spPr>
          <a:xfrm>
            <a:off x="108000" y="4166640"/>
            <a:ext cx="3744720" cy="214596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тветственный организатор :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Демонстрирует целостность упаковки спецпакета с ЭМ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Вскрывает доставочный пакет с ИК (в ППЭ-12-01 фиксируется дата и время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2852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торы раздают участникам ОГЭ ИК в произвольном порядк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4356000" y="2693520"/>
            <a:ext cx="4637160" cy="134100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Участники экзамена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в процессе инструктажа по указанию организатора вскрывают ИК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оверяют комплектацию и наличие полиграфического брак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4356000" y="658080"/>
            <a:ext cx="4645080" cy="107316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бъявляется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начало, продолжительность и время окончания экзамена,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фиксируется время начала и окончания на доске  в формах                  ППЭ-12-01, ППЭ-05-02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7" name="AutoShape 25"/>
          <p:cNvCxnSpPr/>
          <p:nvPr/>
        </p:nvCxnSpPr>
        <p:spPr>
          <a:xfrm flipH="1" flipV="1">
            <a:off x="6587280" y="1731240"/>
            <a:ext cx="1080" cy="2055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8" name="AutoShape 25"/>
          <p:cNvCxnSpPr/>
          <p:nvPr/>
        </p:nvCxnSpPr>
        <p:spPr>
          <a:xfrm>
            <a:off x="3924000" y="4903920"/>
            <a:ext cx="18468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9" name="AutoShape 3"/>
          <p:cNvSpPr/>
          <p:nvPr/>
        </p:nvSpPr>
        <p:spPr>
          <a:xfrm>
            <a:off x="4356000" y="1951200"/>
            <a:ext cx="4645080" cy="536760"/>
          </a:xfrm>
          <a:prstGeom prst="roundRect">
            <a:avLst>
              <a:gd name="adj" fmla="val 254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Участники экзамена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заполняют регистрационные поля бланк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0" name="AutoShape 25"/>
          <p:cNvCxnSpPr/>
          <p:nvPr/>
        </p:nvCxnSpPr>
        <p:spPr>
          <a:xfrm flipH="1">
            <a:off x="2125080" y="3679920"/>
            <a:ext cx="1080" cy="1958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2920" y="115920"/>
            <a:ext cx="69296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ало экзамена в аудитории ПП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Прямоугольник 4" descr=""/>
          <p:cNvPicPr/>
          <p:nvPr/>
        </p:nvPicPr>
        <p:blipFill>
          <a:blip r:embed="rId1"/>
          <a:stretch/>
        </p:blipFill>
        <p:spPr>
          <a:xfrm>
            <a:off x="4876920" y="-6480"/>
            <a:ext cx="4254480" cy="9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Object 3"/>
          <p:cNvGraphicFramePr/>
          <p:nvPr/>
        </p:nvGraphicFramePr>
        <p:xfrm>
          <a:off x="142920" y="714240"/>
          <a:ext cx="6769080" cy="615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714240"/>
                    <a:ext cx="676908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Прямоугольник 5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f81bd">
              <a:alpha val="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1200" y="231840"/>
            <a:ext cx="671508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рмативные правовые а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286000" y="69840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е докум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49120" y="1190520"/>
            <a:ext cx="85010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Российской Федерации» от 29.12.2012 № 273-ФЗ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249120" y="2262240"/>
            <a:ext cx="8501040" cy="7142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формирования и ведения ФИС ГИА и приема и РИС ГИ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1.08.2013 № 755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249120" y="3333600"/>
            <a:ext cx="8501040" cy="714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аккредитации общественных наблюдателе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28.06.2013 № 491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Стрелка вниз 11"/>
          <p:cNvSpPr/>
          <p:nvPr/>
        </p:nvSpPr>
        <p:spPr>
          <a:xfrm>
            <a:off x="8572680" y="178596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Стрелка вниз 12"/>
          <p:cNvSpPr/>
          <p:nvPr/>
        </p:nvSpPr>
        <p:spPr>
          <a:xfrm>
            <a:off x="8572680" y="285768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Стрелка вниз 13"/>
          <p:cNvSpPr/>
          <p:nvPr/>
        </p:nvSpPr>
        <p:spPr>
          <a:xfrm>
            <a:off x="8643960" y="3978360"/>
            <a:ext cx="357120" cy="571320"/>
          </a:xfrm>
          <a:prstGeom prst="downArrow">
            <a:avLst>
              <a:gd name="adj1" fmla="val 50000"/>
              <a:gd name="adj2" fmla="val 49993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Прямоугольник 15"/>
          <p:cNvSpPr/>
          <p:nvPr/>
        </p:nvSpPr>
        <p:spPr>
          <a:xfrm>
            <a:off x="249120" y="4365720"/>
            <a:ext cx="8572680" cy="1071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образования и науки Российской Федерации от 25.12.2013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94 «Об утверждении Порядка проведения государственной итоговой аттестаци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разовательным программам основного общего образования»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Прямоугольник 4" descr=""/>
          <p:cNvPicPr/>
          <p:nvPr/>
        </p:nvPicPr>
        <p:blipFill>
          <a:blip r:embed="rId1"/>
          <a:stretch/>
        </p:blipFill>
        <p:spPr>
          <a:xfrm>
            <a:off x="4876920" y="-6480"/>
            <a:ext cx="4254480" cy="97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1"/>
          <p:cNvGraphicFramePr/>
          <p:nvPr/>
        </p:nvGraphicFramePr>
        <p:xfrm>
          <a:off x="71280" y="663480"/>
          <a:ext cx="5572440" cy="616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663480"/>
                    <a:ext cx="55724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Прямоугольник 3">
            <a:hlinkClick r:id="rId4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f81bd">
              <a:alpha val="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2"/>
          <p:cNvSpPr/>
          <p:nvPr/>
        </p:nvSpPr>
        <p:spPr>
          <a:xfrm>
            <a:off x="119160" y="1000080"/>
            <a:ext cx="4645080" cy="4352760"/>
          </a:xfrm>
          <a:prstGeom prst="rect">
            <a:avLst/>
          </a:prstGeom>
          <a:noFill/>
          <a:ln w="15840">
            <a:solidFill>
              <a:srgbClr val="00000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 время экзамена организатор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ставляют неиспользованные ИК в аудитории до окончания экзамен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оверяют правильность заполнения рег. полей на всех бланках, соответствие персональных данных участников в документе, удостоверяющем личность и в бланке регистрации по форме ППЭ-05-02. В случае расхождения отв. организатор заполняет ведомость ППЭ-12-02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ринимают ЭМ у участников, досрочно завершивших выполнение экз. работ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За 30 минут и за 5 минут до окончания экзамена информируют участников ОГЭ о времени, оставшемся до конца экзамен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За 15 мин. до окончания пересчитывают лишние ИК в аудитории, отмечают в форме ППЭ-05-02 факты неявки участников на экзамен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4917960" y="1000080"/>
            <a:ext cx="4116600" cy="3224880"/>
          </a:xfrm>
          <a:prstGeom prst="rect">
            <a:avLst/>
          </a:prstGeom>
          <a:noFill/>
          <a:ln w="15840">
            <a:solidFill>
              <a:srgbClr val="00000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торам запрещае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Без уважительной причины покидать аудиторию во время экзамен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меть при себе средства связи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казывать содействие участникам ОГЭ в том числе передавать им средства связи, электронно-вычислительную технику, фото, аудио и видеоаппаратуру, справочные материалы, письменные заметки и иные средства хранения и передачи информ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ыносить из аудиторий и ППЭ экзаменационные материалы на бумажном или электронном носителях, фотографировать экзаменационные материал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932360" y="4491000"/>
            <a:ext cx="4114800" cy="993240"/>
          </a:xfrm>
          <a:prstGeom prst="rect">
            <a:avLst/>
          </a:prstGeom>
          <a:noFill/>
          <a:ln w="15840">
            <a:solidFill>
              <a:srgbClr val="00000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торы обязаны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Следить за порядком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Не допускать нарушение участниками экзамена правил проведения ОГЭ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1476360" y="5778360"/>
            <a:ext cx="619272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аудитории во время экзамена обязательно должны находиться не менее двух организатор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36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я организатора в аудитории во время экза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108000" y="836640"/>
            <a:ext cx="8723160" cy="5218920"/>
          </a:xfrm>
          <a:prstGeom prst="rect">
            <a:avLst/>
          </a:prstGeom>
          <a:noFill/>
          <a:ln w="15840">
            <a:solidFill>
              <a:srgbClr val="00000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Следит за порядком и не допускае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говоров  участников ОГЭ между собо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мена любыми материалами и предметами между участниками ОГЭ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личие средств связи, электронно-вычислительной техники, фото, аудио и видеоаппаратуры, справочных материалов, кроме разрешенных, письменных заметок и иных средств хранения и передачи информаци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льного выхода участника ОГЭ из аудитории и перемещения по ППЭ без сопровождения организатора вне аудитори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действия обучающимся, в том числе в передаче им средств связи, электронно-вычислительной техники, фото, аудио и видеоаппаратуры, справочных материалов, письменных заметок и иных средств хранения и передачи информаци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ыноса из аудиторий и ППЭ экзаменационных материалов на бумажном или электронном носителях, фотографирования экзаменационных материалов участниками ОГЭ, а также ассистентами или техническими специалиста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дит за состоянием участников ОГЭ и при ухудшении самочувствия направлять участников ОГЭ в сопровождении организаторов вне аудиторий в медицинский пункт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120" y="115920"/>
            <a:ext cx="91105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я организатора в аудитории во время экзам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7" name="AutoShape 2"/>
          <p:cNvCxnSpPr/>
          <p:nvPr/>
        </p:nvCxnSpPr>
        <p:spPr>
          <a:xfrm flipH="1" rot="16200000">
            <a:off x="5783400" y="2610360"/>
            <a:ext cx="2160" cy="1080"/>
          </a:xfrm>
          <a:prstGeom prst="bentConnector5">
            <a:avLst>
              <a:gd name="adj1" fmla="val 14400000"/>
              <a:gd name="adj2" fmla="val 68800000"/>
              <a:gd name="adj3" fmla="val -14400000"/>
            </a:avLst>
          </a:prstGeom>
          <a:ln w="0">
            <a:noFill/>
          </a:ln>
        </p:spPr>
      </p:cxnSp>
      <p:sp>
        <p:nvSpPr>
          <p:cNvPr id="138" name="TextBox 5"/>
          <p:cNvSpPr/>
          <p:nvPr/>
        </p:nvSpPr>
        <p:spPr>
          <a:xfrm>
            <a:off x="214200" y="917640"/>
            <a:ext cx="864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При установлени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- факта наличия и использования средств связи, электронно-вычислительной техники, фото, аудио и видеоаппаратуры, справочных материалов, письменных заметок и иных средств хранения и передачи информаци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- пересаживания, обмена любыми материалами и предмета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- передачи, разглашения и фотографирования КИМ или их ча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- использования справочными материалами, кроме допустимы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- перемещения по ППЭ во время экзамена без сопровождения организат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участник ОГЭ может быть удален с экзамен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я этого организаторы или общественные наблюдатели приглашают уполномоченного представителя ГЭК, которы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ставляет акт об удалении с экзамена и удаляет лиц, нарушивших устанавливаемый порядок проведения ГИА, из ППЭ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(форма ППЭ-21«Акт об удалении участника ГИА-9 с экзамена»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осит соответствующую запись в ведомость ППЭ-05-02. Участник подтверждает запись в ведомости своей подпись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920" y="258840"/>
            <a:ext cx="69292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даление с экза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0" name="AutoShape 2"/>
          <p:cNvCxnSpPr/>
          <p:nvPr/>
        </p:nvCxnSpPr>
        <p:spPr>
          <a:xfrm flipH="1" rot="16200000">
            <a:off x="5783400" y="2610360"/>
            <a:ext cx="2160" cy="1080"/>
          </a:xfrm>
          <a:prstGeom prst="bentConnector5">
            <a:avLst>
              <a:gd name="adj1" fmla="val 14400000"/>
              <a:gd name="adj2" fmla="val 68800000"/>
              <a:gd name="adj3" fmla="val -14400000"/>
            </a:avLst>
          </a:prstGeom>
          <a:ln w="0">
            <a:noFill/>
          </a:ln>
        </p:spPr>
      </p:cxnSp>
      <p:sp>
        <p:nvSpPr>
          <p:cNvPr id="141" name="AutoShape 3"/>
          <p:cNvSpPr/>
          <p:nvPr/>
        </p:nvSpPr>
        <p:spPr>
          <a:xfrm>
            <a:off x="0" y="259200"/>
            <a:ext cx="8929800" cy="6170040"/>
          </a:xfrm>
          <a:prstGeom prst="roundRect">
            <a:avLst>
              <a:gd name="adj" fmla="val 2545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лучае если участник ОГЭ по состоянию здоровья или другим объективным причинам не может завершить выполнение экзаменационной работы, он может покинуть аудиторию, при этом организатор должен пригласить медицинского работника и уполномоченного представителя ГЭ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торы в аудитории, уполномоченный представитель ГЭК в ППЭ, руководитель ППЭ, медицинский работник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ставляют соответствующ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акт (ППЭ-2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с обязательным указанием причины не завершения экзамена, подтвержденной подписями ответственных лиц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осят соответствующую запись в ведомост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ПЭ-05-0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астник подтверждает запись в ведомости своей подписью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450720" algn="just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46160"/>
                <a:tab algn="l" pos="1171440"/>
                <a:tab algn="l" pos="2343240"/>
                <a:tab algn="l" pos="3514680"/>
                <a:tab algn="l" pos="4686480"/>
                <a:tab algn="l" pos="5857920"/>
                <a:tab algn="l" pos="7029360"/>
                <a:tab algn="l" pos="8201160"/>
                <a:tab algn="l" pos="9372600"/>
                <a:tab algn="l" pos="1054404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полномоченный представитель ГЭК в ППЭ направляет акт в ГЭК и РЦОИ для учета при обработке блан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142560"/>
            <a:ext cx="831852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озможность закончить экзамен по уважительной прич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2"/>
          <p:cNvSpPr/>
          <p:nvPr/>
        </p:nvSpPr>
        <p:spPr>
          <a:xfrm>
            <a:off x="250920" y="981000"/>
            <a:ext cx="8642160" cy="5614200"/>
          </a:xfrm>
          <a:prstGeom prst="rect">
            <a:avLst/>
          </a:prstGeom>
          <a:noFill/>
          <a:ln w="15840">
            <a:solidFill>
              <a:srgbClr val="00000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кончании экзамена организатор должен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ъявить, что экзамен окончен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нять у участников экзамена в организованном порядке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бланки ответов №1, бланки ответов №2, дополнительные бланки ответов № 2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использованные КИМ участников ОГЭ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неиспользованные ИК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бракованные, некомплектные ИК, испорченные ИК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черновик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авить прочерк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» на полях бланков ответов №2, предназначенных для записи ответов в свободной форме, но оставшихся незаполненными (в том числе и на его оборотной стороне), а также в выданных  дополнительных бланках ответов №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ересчитать бланки ОГЭ и запечатать их в возвратные доставочные пакеты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Заполняет форму ППЭ-05-0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Заполняют форму ППЭ-12-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692928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ершение экзамена в аудитории ПП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5" name="AutoShape 2"/>
          <p:cNvCxnSpPr/>
          <p:nvPr/>
        </p:nvCxnSpPr>
        <p:spPr>
          <a:xfrm flipH="1" rot="16200000">
            <a:off x="5783400" y="2610360"/>
            <a:ext cx="2160" cy="1080"/>
          </a:xfrm>
          <a:prstGeom prst="bentConnector5">
            <a:avLst>
              <a:gd name="adj1" fmla="val 14400000"/>
              <a:gd name="adj2" fmla="val 68800000"/>
              <a:gd name="adj3" fmla="val -14400000"/>
            </a:avLst>
          </a:prstGeom>
          <a:ln w="0">
            <a:noFill/>
          </a:ln>
        </p:spPr>
      </p:cxnSp>
      <p:sp>
        <p:nvSpPr>
          <p:cNvPr id="146" name="Прямоугольник 2"/>
          <p:cNvSpPr/>
          <p:nvPr/>
        </p:nvSpPr>
        <p:spPr>
          <a:xfrm>
            <a:off x="179280" y="1557360"/>
            <a:ext cx="9072720" cy="5316120"/>
          </a:xfrm>
          <a:prstGeom prst="rect">
            <a:avLst/>
          </a:prstGeom>
          <a:noFill/>
          <a:ln w="15840">
            <a:solidFill>
              <a:srgbClr val="00000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печатанные возвратные спецпакеты с бланками ответов № 1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печатанные возвратные спецпакеты с бланками ответов № 2, дополнительными бланками ответов № 2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печатанный в конверт внешний носитель (CD, флеш-карты и др.) с файлами экзаменационных работ участников по информатике и ИК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печатанный в конверт внешний носитель (CD, флеш-карты и др.) с файлами ответов участников на задания устной части экзамена по иностранному язык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спользованные дополнительные бланки ответов № 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ные КИ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ерновик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спользованные доставочные спецпакеты  с индивидуальными комплектами экзаменационных материал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спользованные индивидуальные комплекты экзаменационных материалов (в т.ч. из вскрытого резервного спецпакета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е комплекты, в которых были обнаружены лишние (недостающие), имеющие полиграфические дефекты КИМ, блан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250920" y="836640"/>
            <a:ext cx="8688240" cy="628920"/>
          </a:xfrm>
          <a:prstGeom prst="rect">
            <a:avLst/>
          </a:prstGeom>
          <a:noFill/>
          <a:ln w="15840">
            <a:solidFill>
              <a:srgbClr val="00000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Руководитель ППЭ сформировывает и передает уполномоченному ГЭК в ППЭ по акту приемки-передачи 14-ППЭ все Э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58400" y="115920"/>
            <a:ext cx="692964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вершение ОГЭ в ПП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2"/>
          <p:cNvSpPr/>
          <p:nvPr/>
        </p:nvSpPr>
        <p:spPr>
          <a:xfrm>
            <a:off x="106200" y="333360"/>
            <a:ext cx="9072720" cy="6904800"/>
          </a:xfrm>
          <a:prstGeom prst="rect">
            <a:avLst/>
          </a:prstGeom>
          <a:noFill/>
          <a:ln w="15840">
            <a:solidFill>
              <a:srgbClr val="00000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окол проведения ОГЭ в ППЭ (форма ППЭ-13-0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ормы ППЭ-05-01,ППЭ-07-01, ППЭ-07-02, ППЭ-12-02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дующие акты: акт готовности ППЭ (форма ППЭ-01), акт о результатах общественного контроля (форма ППЭ-18), а также по наличию – акт идентификации личности участника ОГЭ (форма ППЭ-20), акт об удалении участника ОГЭ (форма ППЭ-21), акт о досрочном завершении экзамена по объективным причинам (форма ППЭ-22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ланк апелляции о нарушении установленного порядка проведения ГИА-9 (форма ППЭ-02) и протокол рассмотрения апелляции о нарушении установленного порядка проведения ГИА-9 (форма ППЭ-03) – по наличию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диск с файлами практических экзаменационных заданий по информатике и ИКТ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CD-диски с цифровой аудиозаписью исходного текста для написания участниками краткого изложения по русскому язык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CD-диски с материалами для выполнения участниками задан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аудированию письменной части экзаменационной работ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иностранному язык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плекты вариантов экзаменационных заданий для экзаменаторов - собеседников по иностранному язык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ругие документы и материалы, которые руководитель ППЭ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уполномоченный представитель ГЭК в ППЭ сочли необходимым передать в РЦО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31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16264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сутствие документа, удостоверяющего личность участника ГИА-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141264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90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отсутствия у участника ГИА-9  документа, удостоверяющего личность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ПЭ и сопровождающий от У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формляют форму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ПЭ-21 «Акт идентификации личности участника ГИА – 9»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ин экземпляр протокола остается у руководителя ОУ - ППЭ, второй у сопровождающего от ОУ. Участник экзамена пропускается в ППЭ.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ПЭ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уведомить ответственного организатора в аудитори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й сдает данный участник экзамен о том, что данного участника необходимо пропустить в аудиторию на основании «Акта об идентификации личности участника ГИА-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ППЭ-21 передается в РЦО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80640" y="188640"/>
            <a:ext cx="81630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явка участника ОГЭ на экзам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6640"/>
            <a:ext cx="8281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провождающий из ОУ дает информацию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 причине отсутств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частника ОГ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Если участник ОГЭ отсутствует по уважительной причине (болезнь, смерть близких родственников и т.д.),  в день проведения экзамен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У и МОУО ходатайствует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 допуске данного участника ОГЭ в резервный день (или в дополнительные сроки) приложением документов, подтверждающих наличие уважительной прич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539640" y="914760"/>
            <a:ext cx="7993080" cy="1618560"/>
          </a:xfrm>
          <a:prstGeom prst="rect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каз Министерства образования и науки Российской Федерации от 25 марта 2014 г. N 228   "Об утверждении единого расписания и продолжительности проведения основного государственного экзамена по каждому учебному предмету, перечня средств обучения и воспитания, используемых при его проведении в 2014 году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539640" y="2924280"/>
            <a:ext cx="7993080" cy="1923480"/>
          </a:xfrm>
          <a:prstGeom prst="rect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одические рекомендац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подготовке и проведению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сударственной итоговой аттестации по образовательным программам основного общего образования в форме основного государственного экзамена (письмо Федеральной службы по надзору в сфере образования и наук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 13.03.2014 № 02-10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71200" y="53640"/>
            <a:ext cx="81630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завершение экзамена                                           по уважительной причин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1125000"/>
            <a:ext cx="8496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исключительном случае участник экзамена по уважительной причине (например, проблемы со здоровьем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ет покинуть аудиторию, не закончив экзам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аком случае ответственны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изатор в аудитории должен сообщи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 этой ситуац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дицинскому работник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ководителю ППЭ и уполномоченному представителю ГЭК 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шеперечисленными лицами заполняется форм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ПЭ-2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Акт о досрочном завершении экзамена по объективным причина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У и МОУО ходатайствует о допуске данного участника ОГЭ в резервный д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755640" y="476280"/>
            <a:ext cx="784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ГИА для обучающихся, изучавших родной язык (татарский, чувашский, марийский, удмуртский, марийский) из числа языков народов Российской Федерации и литературу народов России на родном языке из числа языков народов Российской Федерации и выбравших экзамен по данным предметам для прохождения государственной итоговой аттестации в 2014 год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(приказ МОиН РТ от 15.04.2014г. № 2105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395280" y="3782880"/>
            <a:ext cx="874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А по родному языку и родной литературе проводи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0 июня 2014 г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заменационная работа представляет собой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зложение с творческим задание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заменационная работа оформляе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бланках ответов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ны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единые критерии оценива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язы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468360" y="173160"/>
            <a:ext cx="8567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А по родному языку и родной литературе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водится в ПП ОГЭ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 день до экзамена руководитель ППЭ организуе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аспредел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бучающихся и организаторов по аудиториям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ручную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ецпакеты с ЭМ выд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9 или 10 июня 2014г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полномоченным представителям ГЭ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должительность экзамена –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 часа 55 ми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 (235 мин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стникам ГИА по родному языку и родной литературе разрешае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льзоваться орфографическими словарям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кст изложения читае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читель начального класса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ладеющий родным языком, и не преподающий в образовательной организации, обучающиеся которой сдают экзамен в данной аудитории. Текст изложения читается два раза. После второго прочтения учитель начального класс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олжен покинуть экзаменационную аудиторию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рка экзаменационных работ осуществляе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метными комиссиям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о соответствующим учебным предмет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1619280" y="1432080"/>
            <a:ext cx="698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оды предметов по родному языку и родной литератур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6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татарский язык и литератур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7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–чувашский язык и литератур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8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удмуртский язык и литератур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марийский язык и литератур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мордовский язык и литератур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одачи апелляции по результа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836640"/>
            <a:ext cx="915192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лляция о несогласии с выставленными баллами ОГЭ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ется в ОО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торой они были допущены в установленном порядке к ГИА,  в течени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х рабочих дне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 дня объявления результатов экзамена по соответствующему общеобразовательному предмет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ОО, принявший апелляцию, должен передать ее в МОУО для дальнейшей передачи в Конфликтную комисс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апелляций о несогласии с выставленными баллами осуществляется в электронном виде. МОУО передает зарегистрированное заявление апелляции с указанием даты и времени рассмотрения в общеобразовательную организац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О заблаговременно информирует участников ОГЭ и (или) их родителей (законных представителей) о времени и месте рассмотрения апелляц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егистрации и рассмотрения апелляци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несогласии                              с выставленными баллами по результатам ОГЭ: ГБУ «Республиканский центр мониторинга качества образования» (г.Казань, ул. Боевая, д.13, тел. 223-09-17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163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пелляции о нарушении процедуры проведения экза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169992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ачи апелляции о нарушении установленного порядка проведения ОГЭ участник экзамена должен обратиться к ответственному организатору в аудитории или руководителю ППЭ, который должен выдать участнику экзамен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 ППЭ-02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пелляция о нарушении установленного порядка проведения ГИА-9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лномоченный представитель ГЭК обязан немедленно провест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ебное расследова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фактам, изложенным в поданном заявлении, и оформить Протокол служебного расследования апелляции о нарушении установленного порядка проведения ГИА-9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а ППЭ-0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пелляционные документы о нарушении установленного порядка проведения ГИА-9 вместе с протоколом служебного расследования передаются в РЦОИ  уполномоченным представителем ГЭК Р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ПЭ могут находиться лица, направленные департаментом надзора и контроля в сфере образования министерства для осуществления контроля за ходом проведения государственной итоговой аттестации, или члены ГЭК Р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75502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ветственность должностных ли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000" y="1700280"/>
            <a:ext cx="8110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, привлекаемые к работе по подготовке и проведению государственной итоговой аттестации, в период выполнения ими функций по проведению государственной итоговой аттестации обучающихся признаю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ными лиц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есут ответственность в соответствии с законодательством Российской Федерации за неисполнение или ненадлежащее исполнение своих обязанностей и злоупотребление служебным положени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ственность общеобразовательных организ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4360" y="1916280"/>
            <a:ext cx="764352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за ознакомление выпускников IX классов, родителей (их законных представителей) с нормативными правовыми актами, инструкциями, регламентирующими проведение государственной итоговой аттестации обучающихся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лагается на общеобразовательную организацию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Единый республиканский экзамен                                                    по татарскому языку и татарской литературе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7360" y="1125360"/>
            <a:ext cx="9026640" cy="64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РЭ по татарской литературе проводится 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 июн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 татарскому языку 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 июн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текуще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даются в день проведения экзамен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олномоченным представителям ГЭК 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тельной организацией оформляе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пуск на ПП ЕГЭ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РЭ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одится в ПП ЕГЭ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день до экзамена руководитель ППЭ организуе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учающихся и организаторов по аудитория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учну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ервный день - межмуниципальное планирование в соответствии с приказом МОиН РТ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олжительность экзамена –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,5 часа (210 минут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М по разным кодам упаковываю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дель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575964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е  докумен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769080" cy="1784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528480" y="3429000"/>
            <a:ext cx="779796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6560" y="282600"/>
            <a:ext cx="8163000" cy="35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нтактные телефоны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. тел. 294-95-62,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ЦОИ (г.Казань, ул. Боевая, д 13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л. 223-09-17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lyaush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ahova@tatar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6920" y="429264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395280" y="297000"/>
            <a:ext cx="8424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ста расположения пунктов проведения ОГЭ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тверждены приказом МОиН РТ от 13.02.2014г. № 665/1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став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иц, </a:t>
            </a:r>
            <a:r>
              <a:rPr b="1" lang="tt-RU" sz="1800" spc="-1" strike="noStrike">
                <a:solidFill>
                  <a:srgbClr val="000000"/>
                </a:solidFill>
                <a:latin typeface="Verdana"/>
              </a:rPr>
              <a:t>привлекаемых к проведению основного государственного экзамена</a:t>
            </a:r>
            <a:r>
              <a:rPr b="0" lang="tt-RU" sz="1800" spc="-1" strike="noStrike">
                <a:solidFill>
                  <a:srgbClr val="000000"/>
                </a:solidFill>
                <a:latin typeface="Verdana"/>
              </a:rPr>
              <a:t> в 2014 году: руководителей и резерва  руководителей ППЭ, организаторов в аудиториЙ и вне аудиторий,  ттехнических специалистов для проведения ОГЭ по информатике и ИКТ, иностранным (английский, немецкий, французский) языкам, специалистов по проведению инструктажа и обеспечению лабораторных работ для проведения ОГЭ по физике, экзаменаторов-собеседников, ведущих собеседование при проведении устной части ОГЭ по иностранным языкам, ассистентов для лиц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ограниченными возможностями здоровья утвержден приказом МОиН РТ от 21.03.2014 № 1507/1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став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полномоченных представителей ГЭК Р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твержден приказом МОиН РТ от 08.05.2014 № 2654/1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ставы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едметных комиссий Республики Татарстан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проверке заданий с развернутым ответом ОГЭ  и по проверке письменного экзамена государственной итоговой аттестации по языку и родной литературе утверждены приказом МОиН РТ от 17.04.2014 № 2153/14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ительность ОГЭ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39640" y="1125360"/>
          <a:ext cx="8136000" cy="5183280"/>
        </p:xfrm>
        <a:graphic>
          <a:graphicData uri="http://schemas.openxmlformats.org/drawingml/2006/table">
            <a:tbl>
              <a:tblPr/>
              <a:tblGrid>
                <a:gridCol w="3743280"/>
                <a:gridCol w="4392720"/>
              </a:tblGrid>
              <a:tr h="47160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t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редм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родолжительность экза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73332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усский язык, математика, литератур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часа 55 минут (235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99396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физика, история, обществознание, 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часа (180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t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3668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нформатика и И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часа 30 минут (150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54756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химия, 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часа (120 мину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00016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иностранные языки (английский, французский, немецк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часа  10 минут (130 минут) – письменная часть экзамен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минут на каждого экзаменуемого – устная часть экзаме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4800" marR="64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075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чень дополнительных устройств и материалов, пользование которыми разрешено на ОГ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125360"/>
          <a:ext cx="8712000" cy="5650200"/>
        </p:xfrm>
        <a:graphic>
          <a:graphicData uri="http://schemas.openxmlformats.org/drawingml/2006/table">
            <a:tbl>
              <a:tblPr/>
              <a:tblGrid>
                <a:gridCol w="1152360"/>
                <a:gridCol w="5904000"/>
                <a:gridCol w="1655640"/>
              </a:tblGrid>
              <a:tr h="357480">
                <a:tc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Экза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готовка дополнительных материалов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исполнител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ПЭ/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частник О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очные материалы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К участника ОГЭ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иней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иней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аппаратура, которая может обеспечить качественное воспроизведение аудиозаписей с компакт-диска (формат аудиозаписи -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p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фографический сло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rowSpan="2"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струкция по правилам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программируемый калькуля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мплекты стандартизированного лабораторного оборудован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соответствии с перечнем. Характеристики приборов должн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ыть проверены учителем физики и занесены в специальны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бланк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rowSpan="2"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струкция по правилам безопасности (для каждой аудитор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алькуля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правочные материалы  (ИК участника ОГЭ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rowSpan="2"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географические атласы для 7,8, и 9 класс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ОО, где обучается участник ОГЭ, обеспечивает и контролирует наличие                    у него атласов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программируемый калькуля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иней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ниги с текстами художественных произведений и сборники лирики, в которых не должно быть вступительных статей и комментариев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в соответствии с Перечнем художественных произведений и сборников лирики) Руководитель организации, на базе которой организован ППЭ, подготавливает необходимые тексты для каждой аудитори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фор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нструкция по правилам безопасности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(для каждой аудитор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240" rIns="212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Компьютеры или ноутбу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1240" marR="21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28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дача экзаменационных материалов осуществляется уполномоченным представителям ГЭК РТ в РЦОИ (г.Казань, ул. Боевая, 13) за день или в день экзамена в соответствии графиком выдачи экзаменационных материал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тельный этап  к проведению ОГЭ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ниципальный координатор должен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7-10 дней до экзам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обучение всех категорий работников ППЭ и общественных наблюдат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в необходимом количестве возвратные доставочные пакеты (бумажные конверты), СД-диски (по 2 на ППЭ для проведения экзаменов по информатике, иностранным языкам)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соответствие ППЭ требованиям, установленным в инструкциях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каждое ППЭ медицинским работником и представителем органа охраны правопоряд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ень до экзам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готовность ППЭ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ть обеспеченность ППЭ техническими средствами и оборудование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21:01:05Z</dcterms:created>
  <dc:creator>ege</dc:creator>
  <dc:description/>
  <dc:language>en-US</dc:language>
  <cp:lastModifiedBy>Салахова</cp:lastModifiedBy>
  <cp:lastPrinted>2014-05-13T19:13:30Z</cp:lastPrinted>
  <dcterms:modified xsi:type="dcterms:W3CDTF">2014-05-14T05:44:55Z</dcterms:modified>
  <cp:revision>104</cp:revision>
  <dc:subject/>
  <dc:title>Салахова М.Х.,                                                                               ведущий консультант                                                                          Министерства образования и науки РТ</dc:title>
</cp:coreProperties>
</file>